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F77-7D8C-4885-BBCE-984D683B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9CAE-F74F-40D8-9AC7-E873A5A1E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5461-F399-47D5-A945-1BBE8153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136-0D86-4730-9C5C-ED4EC006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1CD-8909-4529-8E7E-87B7FC1A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67E-FA64-492A-9DA8-ED001A6F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B0F-AF16-4F29-8CF7-C5A1B056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058C-9EB5-40AA-82CC-6640F807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0598-FEB6-43C7-B289-142C9F9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1261-2E27-4E68-97BB-F6A03BF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4BB4-4AD7-4FAF-9A6E-56E356C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D881-DC20-403D-9AB1-3FD24C0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BCE6-35BC-4C88-8ED7-E13F3E72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BE33-E2CA-4186-8992-FCDD19D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9A6-C2D9-4B3D-92E8-D822BBF0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706-B23C-438E-81C5-72A207D2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8C95-E709-4BBC-B876-0F3E893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2F3-B079-43AB-A7BD-AE53357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ED7F-130A-4A36-8683-64FB20A5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3D0-ABB5-493A-94C9-2FFF7319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3577F-B023-43A0-9970-E220D9BE2D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43C4B-A165-491B-AE06-BDA0B090F5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1BDFE-9B0E-469C-8032-E70CE3D75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63850-72F3-4AE4-B66F-9D317ED65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093BF-ED62-43E7-88E2-E6EAAB847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86F-3313-4C8E-8DB7-29B9285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9DD23-FA32-49F9-8436-B9C68033E2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8C91B-37E8-4E39-B622-420DFE2744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7E74E-318D-4F50-AD5F-4BD370CC0D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AC2D9-15B3-4EF9-AE2B-F6E081CC99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D5765-64FD-4E17-8DCD-C1C708AEFB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EB84B-A18B-44A2-A783-0164E5C8FC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CB490-BE00-48D7-8B15-A7A4ADF34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475-E813-4CA7-9F24-840A5542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58C-2A1D-4A3C-9E00-6D25CF24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302-CDC1-4580-9FB2-980695EA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0AE-C34A-4F8B-A0AD-D73C8F3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DFF-7F40-406F-A7EA-9734E65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E79-EAC1-4D49-89E0-13DB567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986-B0D0-4701-9FC9-574D0FCAD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5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6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7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8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9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67" name="Rectangle 3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8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9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10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1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Rectangle 12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13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4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15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80" name="Rectangle 16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Rectangle 17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18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Rectangle 19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20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Rectangle 21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22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3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" name="Picture 24" descr="CHESS2"/>
            <p:cNvPicPr/>
            <p:nvPr/>
          </p:nvPicPr>
          <p:blipFill>
            <a:blip r:embed="rId2"/>
            <a:stretch/>
          </p:blipFill>
          <p:spPr>
            <a:xfrm>
              <a:off x="243000" y="1797120"/>
              <a:ext cx="1587240" cy="1676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89" name="Picture 25" descr="COMPASS2"/>
            <p:cNvPicPr/>
            <p:nvPr/>
          </p:nvPicPr>
          <p:blipFill>
            <a:blip r:embed="rId3"/>
            <a:stretch/>
          </p:blipFill>
          <p:spPr>
            <a:xfrm>
              <a:off x="243000" y="3481560"/>
              <a:ext cx="1589040" cy="28224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90" name="Picture 26" descr="HOURGLASS2"/>
            <p:cNvPicPr/>
            <p:nvPr/>
          </p:nvPicPr>
          <p:blipFill>
            <a:blip r:embed="rId4"/>
            <a:stretch/>
          </p:blipFill>
          <p:spPr>
            <a:xfrm>
              <a:off x="1849320" y="1795320"/>
              <a:ext cx="2438640" cy="4510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621-1EFF-476F-A7F3-C6189BB7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"/>
          <p:cNvGrpSpPr/>
          <p:nvPr/>
        </p:nvGrpSpPr>
        <p:grpSpPr>
          <a:xfrm>
            <a:off x="0" y="-360"/>
            <a:ext cx="9144000" cy="6859800"/>
            <a:chOff x="0" y="-360"/>
            <a:chExt cx="9144000" cy="6859800"/>
          </a:xfrm>
        </p:grpSpPr>
        <p:sp>
          <p:nvSpPr>
            <p:cNvPr id="133" name="Rectangle 7"/>
            <p:cNvSpPr/>
            <p:nvPr/>
          </p:nvSpPr>
          <p:spPr>
            <a:xfrm>
              <a:off x="230040" y="6377040"/>
              <a:ext cx="8688600" cy="48240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0" y="1440"/>
              <a:ext cx="89154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228600" y="609480"/>
              <a:ext cx="8686800" cy="11131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0"/>
            <p:cNvGrpSpPr/>
            <p:nvPr/>
          </p:nvGrpSpPr>
          <p:grpSpPr>
            <a:xfrm>
              <a:off x="0" y="1440"/>
              <a:ext cx="228600" cy="6858000"/>
              <a:chOff x="0" y="1440"/>
              <a:chExt cx="228600" cy="6858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0" y="571644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0" y="1440"/>
                <a:ext cx="228600" cy="30492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0" y="30636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0" y="608040"/>
                <a:ext cx="228600" cy="30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15"/>
              <p:cNvSpPr/>
              <p:nvPr/>
            </p:nvSpPr>
            <p:spPr>
              <a:xfrm>
                <a:off x="0" y="912960"/>
                <a:ext cx="228600" cy="80964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0" y="3176640"/>
                <a:ext cx="228600" cy="183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17"/>
              <p:cNvSpPr/>
              <p:nvPr/>
            </p:nvSpPr>
            <p:spPr>
              <a:xfrm>
                <a:off x="0" y="5010120"/>
                <a:ext cx="228600" cy="18478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0" y="1722600"/>
                <a:ext cx="228600" cy="1476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9"/>
            <p:cNvGrpSpPr/>
            <p:nvPr/>
          </p:nvGrpSpPr>
          <p:grpSpPr>
            <a:xfrm>
              <a:off x="8913600" y="-360"/>
              <a:ext cx="230400" cy="6858360"/>
              <a:chOff x="8913600" y="-360"/>
              <a:chExt cx="230400" cy="6858360"/>
            </a:xfrm>
          </p:grpSpPr>
          <p:sp>
            <p:nvSpPr>
              <p:cNvPr id="146" name="Rectangle 20"/>
              <p:cNvSpPr/>
              <p:nvPr/>
            </p:nvSpPr>
            <p:spPr>
              <a:xfrm>
                <a:off x="8915400" y="5934240"/>
                <a:ext cx="228600" cy="3045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21"/>
              <p:cNvSpPr/>
              <p:nvPr/>
            </p:nvSpPr>
            <p:spPr>
              <a:xfrm>
                <a:off x="8915400" y="6238800"/>
                <a:ext cx="228600" cy="30492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8915400" y="6543720"/>
                <a:ext cx="228600" cy="31428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3"/>
              <p:cNvSpPr/>
              <p:nvPr/>
            </p:nvSpPr>
            <p:spPr>
              <a:xfrm rot="10800000">
                <a:off x="8913600" y="-360"/>
                <a:ext cx="228600" cy="1143000"/>
              </a:xfrm>
              <a:prstGeom prst="rect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 rot="10800000">
                <a:off x="8913600" y="5001840"/>
                <a:ext cx="228600" cy="934920"/>
              </a:xfrm>
              <a:prstGeom prst="rect">
                <a:avLst/>
              </a:prstGeom>
              <a:solidFill>
                <a:srgbClr val="7e70e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 rot="10800000">
                <a:off x="8915040" y="1722600"/>
                <a:ext cx="228600" cy="1792080"/>
              </a:xfrm>
              <a:prstGeom prst="rect">
                <a:avLst/>
              </a:prstGeom>
              <a:solidFill>
                <a:srgbClr val="efd86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26"/>
              <p:cNvSpPr/>
              <p:nvPr/>
            </p:nvSpPr>
            <p:spPr>
              <a:xfrm rot="10800000">
                <a:off x="8913600" y="1080"/>
                <a:ext cx="230040" cy="1721160"/>
              </a:xfrm>
              <a:prstGeom prst="rect">
                <a:avLst/>
              </a:prstGeom>
              <a:solidFill>
                <a:srgbClr val="80d078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7"/>
              <p:cNvSpPr/>
              <p:nvPr/>
            </p:nvSpPr>
            <p:spPr>
              <a:xfrm rot="10800000">
                <a:off x="8915040" y="3516480"/>
                <a:ext cx="227160" cy="14889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4" name="Picture 28" descr="smallHOURGLASS2"/>
            <p:cNvPicPr/>
            <p:nvPr/>
          </p:nvPicPr>
          <p:blipFill>
            <a:blip r:embed="rId2"/>
            <a:stretch/>
          </p:blipFill>
          <p:spPr>
            <a:xfrm>
              <a:off x="7983360" y="4686480"/>
              <a:ext cx="927360" cy="17143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5" name="Picture 29" descr="smallCOMPASS2"/>
            <p:cNvPicPr/>
            <p:nvPr/>
          </p:nvPicPr>
          <p:blipFill>
            <a:blip r:embed="rId3"/>
            <a:stretch/>
          </p:blipFill>
          <p:spPr>
            <a:xfrm>
              <a:off x="7262640" y="5346720"/>
              <a:ext cx="698760" cy="1511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156" name="Picture 30" descr="smallCHESS2"/>
            <p:cNvPicPr/>
            <p:nvPr/>
          </p:nvPicPr>
          <p:blipFill>
            <a:blip r:embed="rId4"/>
            <a:stretch/>
          </p:blipFill>
          <p:spPr>
            <a:xfrm>
              <a:off x="7854840" y="6235560"/>
              <a:ext cx="584280" cy="622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grpSp>
        <p:nvGrpSpPr>
          <p:cNvPr id="157" name="Oval 31"/>
          <p:cNvGrpSpPr/>
          <p:nvPr/>
        </p:nvGrpSpPr>
        <p:grpSpPr>
          <a:xfrm>
            <a:off x="7905600" y="6381720"/>
            <a:ext cx="946440" cy="415800"/>
            <a:chOff x="7905600" y="6381720"/>
            <a:chExt cx="946440" cy="415800"/>
          </a:xfrm>
        </p:grpSpPr>
        <p:pic>
          <p:nvPicPr>
            <p:cNvPr id="158" name="Oval 31" descr=""/>
            <p:cNvPicPr/>
            <p:nvPr/>
          </p:nvPicPr>
          <p:blipFill>
            <a:blip r:embed="rId5"/>
            <a:stretch/>
          </p:blipFill>
          <p:spPr>
            <a:xfrm>
              <a:off x="7905600" y="6381720"/>
              <a:ext cx="9464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058240" y="6456240"/>
              <a:ext cx="6476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c6d1d"/>
                </a:solidFill>
                <a:latin typeface="Myriad Web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2A38-2B9A-403E-A8B6-4060364AE1D6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SI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axation (pays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starting (each state has its own rules for a corporate char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arger, more bureaucratic than other form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governmen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ypes of Corpo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Most corporations are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C corporations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, which are taxed as an entity by the federal govern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subchapter S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differs from a C corporation in how it is taxed. It is not taxed as an entity, rather its income or loss is applied to each shareholder and appears on their tax retur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limited liability company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similar to a C corporation, but with simpler operating requirements and tax procedures and greater liability protection for the business ow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Myriad Web Pro"/>
              </a:rPr>
              <a:t>nonprofit corporation</a:t>
            </a:r>
            <a:r>
              <a:rPr b="0" lang="en-US" sz="2300" spc="-1" strike="noStrike">
                <a:solidFill>
                  <a:srgbClr val="000000"/>
                </a:solidFill>
                <a:latin typeface="Myriad Web Pro"/>
              </a:rPr>
              <a:t> is a legally defined type of business ownership in which the company operates not to provide profit for its shareholders but to serve the good of societ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AC90-F25D-4627-B91D-3DB578D150C6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d Liability Company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LC is often described as a hybrid business form. It combines the liability protection of a corporation with the tax treatment and ease of administration of a partnership. As the name suggests, it offers liability protection to its owners for company debts and li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do not require annual meetings and require few ongoing form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ners are protected from personal liability for company debts and obl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enjoy partnership-style, pass-through taxation, which is favorable to many small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L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are more expensive to set up than partner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LLC is not an appropriate vehicle for businesses seeking to become public eventually, or to raise money in the capital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Cs usually require annual fees and periodic filings with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ype is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your sit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trengths and weak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Corbel"/>
              </a:rPr>
              <a:t>Liability of Business Ow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Text Placeholder 2" descr=""/>
          <p:cNvPicPr/>
          <p:nvPr/>
        </p:nvPicPr>
        <p:blipFill>
          <a:blip r:embed="rId1"/>
          <a:stretch/>
        </p:blipFill>
        <p:spPr>
          <a:xfrm>
            <a:off x="225360" y="1378080"/>
            <a:ext cx="8961480" cy="243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57200" y="2971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Un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 be legally forced to use personal money and possessions to pay the debt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c6d1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Web Pro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Myriad Web Pro"/>
              </a:rPr>
              <a:t> means that a business owner cannot be legally forced to use personal money and possessions to pay business d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70920" y="6488280"/>
            <a:ext cx="38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218A-84AE-49DC-AB4E-C8CAAF20D92C}" type="slidenum"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914400" y="6416640"/>
            <a:ext cx="693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c6d1d"/>
                </a:solidFill>
                <a:latin typeface="Myriad Web Pro"/>
              </a:rPr>
              <a:t>Section 3.2: Types of Business Own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and managed by one individual who receives all the profits and bears all the los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starting and going out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profits and busin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in raising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all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knowledge may be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usiness that is owned and managed by two or more individuals who receive all the profits and bear all the lo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raise finan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may combine manager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axes (pays no corporate income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: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nflict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stability after death of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usiness that is owned by stockholders and has rights and responsibilities as if it were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7:58Z</dcterms:created>
  <dc:creator>Trial User</dc:creator>
  <dc:description/>
  <dc:language>en-US</dc:language>
  <cp:lastModifiedBy>NHBOE</cp:lastModifiedBy>
  <dcterms:modified xsi:type="dcterms:W3CDTF">2015-09-16T19:17:39Z</dcterms:modified>
  <cp:revision>9</cp:revision>
  <dc:subject/>
  <dc:title>TYPES OF BUSINESSES</dc:title>
</cp:coreProperties>
</file>